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4FE7-5B04-4C5D-84B4-7919E207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A44-595A-4C3E-93C7-C5370730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DD6-BE2A-49A0-9E3D-B7057304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50B4-2309-48E6-8501-BC5B65D0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6871-BE46-4CAE-9F67-44B58213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E789-7A58-475D-A3C4-7A746ACB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494C-E56E-45D1-827B-A1023AE2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CAB6-DF32-4A45-817A-8C694935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78B8-1BD9-4F3F-A417-8D020910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E4AA-0E9E-4259-A9B9-BE9B4544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BB0A-3623-4F38-92A0-63D1BA7D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CA6-5BD5-4C4D-AF8C-2A8661C2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6A9C-74C8-4855-B65F-2AE4C7A6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2B57-DC5F-4414-B9B3-31E5647B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8A61-9816-4AD8-93C2-032C19B2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8335-5A7D-4F3B-90F0-0CE4985C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90B6-4CE2-490C-9ABC-D9F0559C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78D-0722-4D95-95BC-43013602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0DB-F7CF-48D1-BB19-F57301BF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E52-B8B8-471C-A722-B59D21B0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4EF-5E1E-4234-8CFE-93665A0D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D2F-EB26-40E3-9B69-251E28C9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457-19FF-44C7-9BB0-E29CCFB6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3E8-CDE0-40F2-B6AD-9FB226A5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9642-75A8-491D-993F-9C583454519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B186-A917-40E3-85C5-86CDA3C86C4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teachpol.tcnj.edu/amer_pol_hist/thumbnail453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00600" y="1523520"/>
            <a:ext cx="3881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410080" y="38862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pur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00040" y="1598760"/>
            <a:ext cx="533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47973" t="0" r="0" b="0"/>
          <a:stretch/>
        </p:blipFill>
        <p:spPr>
          <a:xfrm>
            <a:off x="838080" y="1219320"/>
            <a:ext cx="214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76360" y="7617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hur “Boo” Radl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2361960"/>
            <a:ext cx="8226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62120" y="135000"/>
            <a:ext cx="23619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m Robi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19720" y="1598400"/>
            <a:ext cx="42624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51562" t="0" r="0" b="0"/>
          <a:stretch/>
        </p:blipFill>
        <p:spPr>
          <a:xfrm>
            <a:off x="914400" y="1981080"/>
            <a:ext cx="2914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497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200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wo Poor White Families: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unninghams                  The Ewel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lack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320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rper L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802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>
            <a:lum bright="12000"/>
          </a:blip>
          <a:srcRect l="48488" t="16668" r="0" b="0"/>
          <a:stretch/>
        </p:blipFill>
        <p:spPr>
          <a:xfrm>
            <a:off x="6172200" y="380880"/>
            <a:ext cx="1700280" cy="3200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Harper Lee receives an honorary degree from the University of Notre Dame, Indiana, US"/>
          <p:cNvPicPr/>
          <p:nvPr/>
        </p:nvPicPr>
        <p:blipFill>
          <a:blip r:embed="rId2"/>
          <a:stretch/>
        </p:blipFill>
        <p:spPr>
          <a:xfrm>
            <a:off x="5486400" y="3886200"/>
            <a:ext cx="3381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760" y="1219320"/>
            <a:ext cx="4037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191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rper L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Only book she ever wro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Won the Pulitzer Priz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3. Is semi-biographical, based on her childhood in Alabam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4. The character of Dill is based on her real life-childhood friend, Truman Capote, who went on to become a famous writer himself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562720" y="4038480"/>
            <a:ext cx="3122640" cy="23958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6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rcRect l="0" t="0" r="0" b="17713"/>
          <a:stretch/>
        </p:blipFill>
        <p:spPr>
          <a:xfrm>
            <a:off x="533412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rcRect l="10978" t="13287" r="20497" b="13772"/>
          <a:stretch/>
        </p:blipFill>
        <p:spPr>
          <a:xfrm>
            <a:off x="3657600" y="4191120"/>
            <a:ext cx="1558800" cy="20574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09480" y="44197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5182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610000" cy="2095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248520" y="1143000"/>
            <a:ext cx="2054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gal Segregation in Alabama, 1923-194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0" t="0" r="38020" b="0"/>
          <a:stretch/>
        </p:blipFill>
        <p:spPr>
          <a:xfrm>
            <a:off x="6248520" y="955800"/>
            <a:ext cx="2438280" cy="1674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School segregation protest.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876920" y="2819520"/>
            <a:ext cx="3254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65b2ff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5b2ff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Old Monroe County Courthouse"/>
          <p:cNvPicPr/>
          <p:nvPr/>
        </p:nvPicPr>
        <p:blipFill>
          <a:blip r:embed="rId1"/>
          <a:stretch/>
        </p:blipFill>
        <p:spPr>
          <a:xfrm>
            <a:off x="4419720" y="236844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725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327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mbo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8307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Mockingbird:  Symbolizes Everything That is Good and Harmless in This Worl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594480" y="304920"/>
            <a:ext cx="1347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an Louis Finch – “Scout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13280" y="1598760"/>
            <a:ext cx="3500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out’s Character Tra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5462" t="2216" r="4435" b="11315"/>
          <a:stretch/>
        </p:blipFill>
        <p:spPr>
          <a:xfrm>
            <a:off x="4876920" y="15238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ticus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211720" y="175248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m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plot1.jpg"/>
          <p:cNvPicPr/>
          <p:nvPr/>
        </p:nvPicPr>
        <p:blipFill>
          <a:blip r:embed="rId1"/>
          <a:srcRect l="2671" t="9520" r="44004" b="11908"/>
          <a:stretch/>
        </p:blipFill>
        <p:spPr>
          <a:xfrm>
            <a:off x="5486400" y="1752480"/>
            <a:ext cx="2585880" cy="4267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38080" y="1752480"/>
            <a:ext cx="4419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0:58:19Z</dcterms:created>
  <dc:creator>Lisa Ward</dc:creator>
  <dc:description/>
  <dc:language>en-US</dc:language>
  <cp:lastModifiedBy>student</cp:lastModifiedBy>
  <dcterms:modified xsi:type="dcterms:W3CDTF">2010-12-15T19:31:18Z</dcterms:modified>
  <cp:revision>30</cp:revision>
  <dc:subject/>
  <dc:title>To Kill a Mockingbird</dc:title>
</cp:coreProperties>
</file>